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F5B-114B-48E3-A7A7-4BF68DF9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93A-764E-453D-98A4-DEF26710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E0F-C5FE-4C23-AD0E-3D0CA1AD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012-745F-404D-BB88-659395F7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08C-8410-4601-8689-DC10E2D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F99-2A23-47AB-BFCA-2768B24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C62-CBE3-4B2D-83D7-F468E43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D03-EAFC-4A3D-88E0-74B4A55B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092-9156-4AD9-852B-26A5BDFC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EA2-9A3E-454E-B4B0-0ABF179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ED2-7B3A-4A31-AF51-FDCE5AB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E4E-A794-4495-8571-8744ABE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53FE-B47D-47ED-B13E-BB2D189F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862760" cy="203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0880" y="3160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40528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4232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6580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0200" y="4202280"/>
            <a:ext cx="626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Operations –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erations that und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659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205740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13372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23623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7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3280" y="5446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662360" cy="50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0154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2296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218440" cy="123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1460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057400"/>
            <a:ext cx="685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2057400"/>
            <a:ext cx="4572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42:48Z</dcterms:created>
  <dc:creator>Graham</dc:creator>
  <dc:description/>
  <dc:language>en-US</dc:language>
  <cp:lastModifiedBy>Graham</cp:lastModifiedBy>
  <dcterms:modified xsi:type="dcterms:W3CDTF">2011-10-22T23:31:07Z</dcterms:modified>
  <cp:revision>2</cp:revision>
  <dc:subject/>
  <dc:title>Slide 1</dc:title>
</cp:coreProperties>
</file>